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6599-F8BC-4538-9D70-F949A9A57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98BF-C535-49EF-A1E5-410DCC1E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CEED-1D53-4099-B75E-B01860F60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38E0-9F42-4BC8-87CE-1DA5A0DC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730-4994-4814-97D9-A78B0316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C8E6-AF0D-4161-92AC-F5FD0BC4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336-F2C6-4094-94AC-6FFB60E55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674-5FA1-4955-BBA9-3CD549FE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C05B-6838-4A9A-AF86-C974F133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6FC3-5328-4E1D-9860-4F2D1A807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8781-1CC0-46E1-A220-F96EC2F0F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501-F1AE-4261-BC78-988566E8E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6E6-CA4C-4E47-B543-42D230963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2F45-9345-453E-97A7-C115C270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208-14C4-41FE-ABC5-359C361B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4C7-1B7B-4A48-8AC4-C7A50323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3886-1B8C-4D0E-BC9A-9300759F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D751-E2E5-49A3-9D2A-F5EBA691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8355-2A26-4387-9ED5-7C31BD8A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25B9-105C-43C1-B73D-AB43533B7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176E-8E78-458A-B36A-380B0662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9C4E-5A47-4A75-9072-6E5AF6847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C42A-203E-4992-B5FC-91AB4EF2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17F-628D-460E-A38B-E09D116E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610-E8B2-4E40-90F1-6171B77C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3E3-E470-44E6-9B9B-4453CCC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463-02EC-489A-902D-7707ED99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B2E-C64D-4C69-B5E1-65682E75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A94-A394-4E33-B1A1-1BBB5809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FD1-0811-4BC7-B751-960EC9B0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7CD-39F5-4B87-8B82-F32FDC8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641-A91F-483C-894E-A809E0A9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688-1FCD-4F85-A22B-88B3AAE2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4BC-AC1D-4EB3-8793-5DB0C61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129-E076-4773-92C9-74B54BF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706-5804-4E25-A6EC-AD5A65A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DF5B-D64B-4151-B019-3AFC0FDD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04920" y="685800"/>
            <a:ext cx="856296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2232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Napata and  Meroe</a:t>
            </a:r>
            <a:endParaRPr b="1" i="1" lang="en-US" sz="8000" spc="1" strike="noStrike">
              <a:ln cap="rnd" w="2232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590920" y="2971800"/>
            <a:ext cx="4076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648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rington"/>
              </a:rPr>
              <a:t>Ancient Nubian Capitals</a:t>
            </a:r>
            <a:endParaRPr b="1" i="1" lang="en-US" sz="1800" spc="1" strike="noStrike">
              <a:ln cap="rnd" w="648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7162920" y="3049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3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4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bian Women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AutoShape 4"/>
          <p:cNvGrpSpPr/>
          <p:nvPr/>
        </p:nvGrpSpPr>
        <p:grpSpPr>
          <a:xfrm>
            <a:off x="7156440" y="298440"/>
            <a:ext cx="1311120" cy="853920"/>
            <a:chOff x="7156440" y="298440"/>
            <a:chExt cx="1311120" cy="853920"/>
          </a:xfrm>
        </p:grpSpPr>
        <p:pic>
          <p:nvPicPr>
            <p:cNvPr id="15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156440" y="298440"/>
              <a:ext cx="131112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162920" y="30492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6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838080"/>
          <a:ext cx="9144000" cy="1067040"/>
        </p:xfrm>
        <a:graphic>
          <a:graphicData uri="http://schemas.openxmlformats.org/drawingml/2006/table">
            <a:tbl>
              <a:tblPr/>
              <a:tblGrid>
                <a:gridCol w="1778040"/>
                <a:gridCol w="1650960"/>
                <a:gridCol w="1523880"/>
                <a:gridCol w="2362320"/>
                <a:gridCol w="1828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apa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Nubian Wo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eroe Hieroglyph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Myst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" name="AutoShape 73">
            <a:hlinkClick r:id="rId1" action="ppaction://hlinksldjump"/>
          </p:cNvPr>
          <p:cNvSpPr/>
          <p:nvPr/>
        </p:nvSpPr>
        <p:spPr>
          <a:xfrm>
            <a:off x="0" y="1905120"/>
            <a:ext cx="1752480" cy="1066680"/>
          </a:xfrm>
          <a:custGeom>
            <a:avLst/>
            <a:gdLst>
              <a:gd name="textAreaLeft" fmla="*/ 69120 w 1752480"/>
              <a:gd name="textAreaRight" fmla="*/ 1683360 w 17524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5483" h="21600">
                <a:moveTo>
                  <a:pt x="0" y="0"/>
                </a:moveTo>
                <a:lnTo>
                  <a:pt x="35483" y="0"/>
                </a:lnTo>
                <a:lnTo>
                  <a:pt x="35483" y="21600"/>
                </a:lnTo>
                <a:lnTo>
                  <a:pt x="0" y="21600"/>
                </a:lnTo>
                <a:close/>
              </a:path>
              <a:path fill="lightenLess" w="35483" h="21600">
                <a:moveTo>
                  <a:pt x="0" y="0"/>
                </a:moveTo>
                <a:lnTo>
                  <a:pt x="35483" y="0"/>
                </a:lnTo>
                <a:lnTo>
                  <a:pt x="34083" y="1400"/>
                </a:lnTo>
                <a:lnTo>
                  <a:pt x="1400" y="1400"/>
                </a:lnTo>
                <a:close/>
              </a:path>
              <a:path fill="darken" w="35483" h="21600">
                <a:moveTo>
                  <a:pt x="35483" y="0"/>
                </a:moveTo>
                <a:lnTo>
                  <a:pt x="35483" y="21600"/>
                </a:lnTo>
                <a:lnTo>
                  <a:pt x="34083" y="20200"/>
                </a:lnTo>
                <a:lnTo>
                  <a:pt x="34083" y="1400"/>
                </a:lnTo>
                <a:close/>
              </a:path>
              <a:path fill="darkenLess" w="35483" h="21600">
                <a:moveTo>
                  <a:pt x="35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3" y="20200"/>
                </a:lnTo>
                <a:close/>
              </a:path>
              <a:path fill="lighten" w="35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4"/>
          <p:cNvSpPr/>
          <p:nvPr/>
        </p:nvSpPr>
        <p:spPr>
          <a:xfrm>
            <a:off x="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5">
            <a:hlinkClick r:id="rId2" action="ppaction://hlinksldjump"/>
          </p:cNvPr>
          <p:cNvSpPr/>
          <p:nvPr/>
        </p:nvSpPr>
        <p:spPr>
          <a:xfrm>
            <a:off x="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6"/>
          <p:cNvSpPr/>
          <p:nvPr/>
        </p:nvSpPr>
        <p:spPr>
          <a:xfrm>
            <a:off x="0" y="3200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7">
            <a:hlinkClick r:id="rId3" action="ppaction://hlinksldjump"/>
          </p:cNvPr>
          <p:cNvSpPr/>
          <p:nvPr/>
        </p:nvSpPr>
        <p:spPr>
          <a:xfrm>
            <a:off x="0" y="39625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8"/>
          <p:cNvSpPr/>
          <p:nvPr/>
        </p:nvSpPr>
        <p:spPr>
          <a:xfrm>
            <a:off x="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9">
            <a:hlinkClick r:id="rId4" action="ppaction://hlinksldjump"/>
          </p:cNvPr>
          <p:cNvSpPr/>
          <p:nvPr/>
        </p:nvSpPr>
        <p:spPr>
          <a:xfrm>
            <a:off x="0" y="49528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0">
            <a:hlinkClick r:id="rId5" action="ppaction://hlinksldjump"/>
          </p:cNvPr>
          <p:cNvSpPr/>
          <p:nvPr/>
        </p:nvSpPr>
        <p:spPr>
          <a:xfrm>
            <a:off x="0" y="5867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3"/>
          <p:cNvSpPr/>
          <p:nvPr/>
        </p:nvSpPr>
        <p:spPr>
          <a:xfrm>
            <a:off x="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4">
            <a:hlinkClick r:id="rId6" action="ppaction://hlinksldjump"/>
          </p:cNvPr>
          <p:cNvSpPr/>
          <p:nvPr/>
        </p:nvSpPr>
        <p:spPr>
          <a:xfrm>
            <a:off x="1752480" y="1905120"/>
            <a:ext cx="1676520" cy="106668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5">
            <a:hlinkClick r:id="rId7" action="ppaction://hlinksldjump"/>
          </p:cNvPr>
          <p:cNvSpPr/>
          <p:nvPr/>
        </p:nvSpPr>
        <p:spPr>
          <a:xfrm>
            <a:off x="1752480" y="29718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6">
            <a:hlinkClick r:id="rId8" action="ppaction://hlinksldjump"/>
          </p:cNvPr>
          <p:cNvSpPr/>
          <p:nvPr/>
        </p:nvSpPr>
        <p:spPr>
          <a:xfrm>
            <a:off x="1752480" y="39625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">
            <a:hlinkClick r:id="rId9" action="ppaction://hlinksldjump"/>
          </p:cNvPr>
          <p:cNvSpPr/>
          <p:nvPr/>
        </p:nvSpPr>
        <p:spPr>
          <a:xfrm>
            <a:off x="1752480" y="4952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">
            <a:hlinkClick r:id="rId10" action="ppaction://hlinksldjump"/>
          </p:cNvPr>
          <p:cNvSpPr/>
          <p:nvPr/>
        </p:nvSpPr>
        <p:spPr>
          <a:xfrm>
            <a:off x="1752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1828800" y="60199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1828800" y="41148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28800" y="51055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2"/>
          <p:cNvSpPr/>
          <p:nvPr/>
        </p:nvSpPr>
        <p:spPr>
          <a:xfrm>
            <a:off x="1752480" y="31240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3"/>
          <p:cNvSpPr/>
          <p:nvPr/>
        </p:nvSpPr>
        <p:spPr>
          <a:xfrm>
            <a:off x="1752480" y="213372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4">
            <a:hlinkClick r:id="rId11" action="ppaction://hlinksldjump"/>
          </p:cNvPr>
          <p:cNvSpPr/>
          <p:nvPr/>
        </p:nvSpPr>
        <p:spPr>
          <a:xfrm>
            <a:off x="3429000" y="29718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5">
            <a:hlinkClick r:id="rId12" action="ppaction://hlinksldjump"/>
          </p:cNvPr>
          <p:cNvSpPr/>
          <p:nvPr/>
        </p:nvSpPr>
        <p:spPr>
          <a:xfrm>
            <a:off x="3429000" y="495288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6">
            <a:hlinkClick r:id="rId13" action="ppaction://hlinksldjump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7">
            <a:hlinkClick r:id="rId14" action="ppaction://hlinksldjump"/>
          </p:cNvPr>
          <p:cNvSpPr/>
          <p:nvPr/>
        </p:nvSpPr>
        <p:spPr>
          <a:xfrm>
            <a:off x="3429000" y="3962520"/>
            <a:ext cx="1600200" cy="99036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4896" h="21600">
                <a:moveTo>
                  <a:pt x="0" y="0"/>
                </a:moveTo>
                <a:lnTo>
                  <a:pt x="34896" y="0"/>
                </a:lnTo>
                <a:lnTo>
                  <a:pt x="34896" y="21600"/>
                </a:lnTo>
                <a:lnTo>
                  <a:pt x="0" y="21600"/>
                </a:lnTo>
                <a:close/>
              </a:path>
              <a:path fill="lightenLess" w="34896" h="21600">
                <a:moveTo>
                  <a:pt x="0" y="0"/>
                </a:moveTo>
                <a:lnTo>
                  <a:pt x="34896" y="0"/>
                </a:lnTo>
                <a:lnTo>
                  <a:pt x="33496" y="1400"/>
                </a:lnTo>
                <a:lnTo>
                  <a:pt x="1400" y="1400"/>
                </a:lnTo>
                <a:close/>
              </a:path>
              <a:path fill="darken" w="34896" h="21600">
                <a:moveTo>
                  <a:pt x="34896" y="0"/>
                </a:moveTo>
                <a:lnTo>
                  <a:pt x="34896" y="21600"/>
                </a:lnTo>
                <a:lnTo>
                  <a:pt x="33496" y="20200"/>
                </a:lnTo>
                <a:lnTo>
                  <a:pt x="33496" y="1400"/>
                </a:lnTo>
                <a:close/>
              </a:path>
              <a:path fill="darkenLess" w="34896" h="21600">
                <a:moveTo>
                  <a:pt x="34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96" y="20200"/>
                </a:lnTo>
                <a:close/>
              </a:path>
              <a:path fill="lighten" w="34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8">
            <a:hlinkClick r:id="rId15" action="ppaction://hlinksldjump"/>
          </p:cNvPr>
          <p:cNvSpPr/>
          <p:nvPr/>
        </p:nvSpPr>
        <p:spPr>
          <a:xfrm>
            <a:off x="3429000" y="19051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0"/>
          <p:cNvSpPr/>
          <p:nvPr/>
        </p:nvSpPr>
        <p:spPr>
          <a:xfrm>
            <a:off x="3581280" y="3124080"/>
            <a:ext cx="12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3581280" y="411480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"/>
          <p:cNvSpPr/>
          <p:nvPr/>
        </p:nvSpPr>
        <p:spPr>
          <a:xfrm>
            <a:off x="35812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3"/>
          <p:cNvSpPr/>
          <p:nvPr/>
        </p:nvSpPr>
        <p:spPr>
          <a:xfrm>
            <a:off x="3581280" y="60199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>
            <a:hlinkClick r:id="rId16" action="ppaction://hlinksldjump"/>
          </p:cNvPr>
          <p:cNvSpPr/>
          <p:nvPr/>
        </p:nvSpPr>
        <p:spPr>
          <a:xfrm>
            <a:off x="5029200" y="190512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5">
            <a:hlinkClick r:id="rId17" action="ppaction://hlinksldjump"/>
          </p:cNvPr>
          <p:cNvSpPr/>
          <p:nvPr/>
        </p:nvSpPr>
        <p:spPr>
          <a:xfrm>
            <a:off x="5029200" y="2971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6">
            <a:hlinkClick r:id="rId18" action="ppaction://hlinksldjump"/>
          </p:cNvPr>
          <p:cNvSpPr/>
          <p:nvPr/>
        </p:nvSpPr>
        <p:spPr>
          <a:xfrm>
            <a:off x="5029200" y="3962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7">
            <a:hlinkClick r:id="rId19" action="ppaction://hlinksldjump"/>
          </p:cNvPr>
          <p:cNvSpPr/>
          <p:nvPr/>
        </p:nvSpPr>
        <p:spPr>
          <a:xfrm>
            <a:off x="5029200" y="4952880"/>
            <a:ext cx="2286000" cy="914400"/>
          </a:xfrm>
          <a:custGeom>
            <a:avLst/>
            <a:gdLst>
              <a:gd name="textAreaLeft" fmla="*/ 59040 w 2286000"/>
              <a:gd name="textAreaRight" fmla="*/ 2226960 w 2286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8">
            <a:hlinkClick r:id="rId20" action="ppaction://hlinksldjump"/>
          </p:cNvPr>
          <p:cNvSpPr/>
          <p:nvPr/>
        </p:nvSpPr>
        <p:spPr>
          <a:xfrm>
            <a:off x="50292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9"/>
          <p:cNvSpPr/>
          <p:nvPr/>
        </p:nvSpPr>
        <p:spPr>
          <a:xfrm>
            <a:off x="54864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0"/>
          <p:cNvSpPr/>
          <p:nvPr/>
        </p:nvSpPr>
        <p:spPr>
          <a:xfrm>
            <a:off x="3581280" y="21337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1"/>
          <p:cNvSpPr/>
          <p:nvPr/>
        </p:nvSpPr>
        <p:spPr>
          <a:xfrm>
            <a:off x="54864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2"/>
          <p:cNvSpPr/>
          <p:nvPr/>
        </p:nvSpPr>
        <p:spPr>
          <a:xfrm>
            <a:off x="54864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3"/>
          <p:cNvSpPr/>
          <p:nvPr/>
        </p:nvSpPr>
        <p:spPr>
          <a:xfrm>
            <a:off x="5410080" y="5105520"/>
            <a:ext cx="129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4"/>
          <p:cNvSpPr/>
          <p:nvPr/>
        </p:nvSpPr>
        <p:spPr>
          <a:xfrm>
            <a:off x="54864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5">
            <a:hlinkClick r:id="rId21" action="ppaction://hlinksldjump"/>
          </p:cNvPr>
          <p:cNvSpPr/>
          <p:nvPr/>
        </p:nvSpPr>
        <p:spPr>
          <a:xfrm>
            <a:off x="7315200" y="190512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6">
            <a:hlinkClick r:id="rId22" action="ppaction://hlinksldjump"/>
          </p:cNvPr>
          <p:cNvSpPr/>
          <p:nvPr/>
        </p:nvSpPr>
        <p:spPr>
          <a:xfrm>
            <a:off x="7315200" y="297180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7">
            <a:hlinkClick r:id="rId23" action="ppaction://hlinksldjump"/>
          </p:cNvPr>
          <p:cNvSpPr/>
          <p:nvPr/>
        </p:nvSpPr>
        <p:spPr>
          <a:xfrm>
            <a:off x="7315200" y="39625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8">
            <a:hlinkClick r:id="rId24" action="ppaction://hlinksldjump"/>
          </p:cNvPr>
          <p:cNvSpPr/>
          <p:nvPr/>
        </p:nvSpPr>
        <p:spPr>
          <a:xfrm>
            <a:off x="7315200" y="49528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9">
            <a:hlinkClick r:id="rId25" action="ppaction://hlinksldjump"/>
          </p:cNvPr>
          <p:cNvSpPr/>
          <p:nvPr/>
        </p:nvSpPr>
        <p:spPr>
          <a:xfrm>
            <a:off x="7315200" y="5867280"/>
            <a:ext cx="1828800" cy="99072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9865" h="21600">
                <a:moveTo>
                  <a:pt x="0" y="0"/>
                </a:moveTo>
                <a:lnTo>
                  <a:pt x="39865" y="0"/>
                </a:lnTo>
                <a:lnTo>
                  <a:pt x="39865" y="21600"/>
                </a:lnTo>
                <a:lnTo>
                  <a:pt x="0" y="21600"/>
                </a:lnTo>
                <a:close/>
              </a:path>
              <a:path fill="lightenLess" w="39865" h="21600">
                <a:moveTo>
                  <a:pt x="0" y="0"/>
                </a:moveTo>
                <a:lnTo>
                  <a:pt x="39865" y="0"/>
                </a:lnTo>
                <a:lnTo>
                  <a:pt x="38466" y="1400"/>
                </a:lnTo>
                <a:lnTo>
                  <a:pt x="1400" y="1400"/>
                </a:lnTo>
                <a:close/>
              </a:path>
              <a:path fill="darken" w="39865" h="21600">
                <a:moveTo>
                  <a:pt x="39865" y="0"/>
                </a:moveTo>
                <a:lnTo>
                  <a:pt x="39865" y="21600"/>
                </a:lnTo>
                <a:lnTo>
                  <a:pt x="38466" y="20200"/>
                </a:lnTo>
                <a:lnTo>
                  <a:pt x="38466" y="1400"/>
                </a:lnTo>
                <a:close/>
              </a:path>
              <a:path fill="darkenLess" w="39865" h="21600">
                <a:moveTo>
                  <a:pt x="39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6" y="20200"/>
                </a:lnTo>
                <a:close/>
              </a:path>
              <a:path fill="lighten" w="39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0"/>
          <p:cNvSpPr/>
          <p:nvPr/>
        </p:nvSpPr>
        <p:spPr>
          <a:xfrm>
            <a:off x="7543800" y="21337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1"/>
          <p:cNvSpPr/>
          <p:nvPr/>
        </p:nvSpPr>
        <p:spPr>
          <a:xfrm>
            <a:off x="7543800" y="3124080"/>
            <a:ext cx="1295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2"/>
          <p:cNvSpPr/>
          <p:nvPr/>
        </p:nvSpPr>
        <p:spPr>
          <a:xfrm>
            <a:off x="7543800" y="41148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3"/>
          <p:cNvSpPr/>
          <p:nvPr/>
        </p:nvSpPr>
        <p:spPr>
          <a:xfrm>
            <a:off x="7543800" y="51055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4"/>
          <p:cNvSpPr/>
          <p:nvPr/>
        </p:nvSpPr>
        <p:spPr>
          <a:xfrm>
            <a:off x="7543800" y="601992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2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77" name="AutoShape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Hieroglyphic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apital of Pennsylva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87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on the pen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re in a baker’s doz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197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 crashes on the border of Canada and the USA where do you bury the surviv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2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a dark and cold room with nothing but a match, oil lamp, and oil furnace.  Which do you light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4"/>
          <p:cNvGrpSpPr/>
          <p:nvPr/>
        </p:nvGrpSpPr>
        <p:grpSpPr>
          <a:xfrm>
            <a:off x="7236000" y="378000"/>
            <a:ext cx="1304640" cy="847440"/>
            <a:chOff x="7236000" y="378000"/>
            <a:chExt cx="1304640" cy="847440"/>
          </a:xfrm>
        </p:grpSpPr>
        <p:pic>
          <p:nvPicPr>
            <p:cNvPr id="207" name="AutoShape 4" descr=""/>
            <p:cNvPicPr/>
            <p:nvPr/>
          </p:nvPicPr>
          <p:blipFill>
            <a:blip r:embed="rId1"/>
            <a:stretch/>
          </p:blipFill>
          <p:spPr>
            <a:xfrm>
              <a:off x="7236000" y="378000"/>
              <a:ext cx="13046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238880" y="3808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which two cataracts on the Nile River is Mero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it’s not on the Nile    B: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D: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7162920" y="5335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16689" y="3837"/>
                </a:moveTo>
                <a:lnTo>
                  <a:pt x="19266" y="6448"/>
                </a:ln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lnTo>
                  <a:pt x="23652" y="10800"/>
                </a:lnTo>
                <a:lnTo>
                  <a:pt x="21998" y="10800"/>
                </a:lnTo>
                <a:lnTo>
                  <a:pt x="21998" y="17989"/>
                </a:lnTo>
                <a:lnTo>
                  <a:pt x="11380" y="17989"/>
                </a:lnTo>
                <a:lnTo>
                  <a:pt x="11380" y="10800"/>
                </a:lnTo>
                <a:lnTo>
                  <a:pt x="9726" y="10800"/>
                </a:lnTo>
                <a:close/>
              </a:path>
              <a:path fill="darkenLess" w="33378" h="21600">
                <a:moveTo>
                  <a:pt x="19266" y="6448"/>
                </a:moveTo>
                <a:lnTo>
                  <a:pt x="19266" y="4707"/>
                </a:lnTo>
                <a:lnTo>
                  <a:pt x="21041" y="4707"/>
                </a:lnTo>
                <a:lnTo>
                  <a:pt x="21041" y="8224"/>
                </a:lnTo>
                <a:close/>
              </a:path>
              <a:path fill="darkenLess" w="33378" h="21600">
                <a:moveTo>
                  <a:pt x="15767" y="14299"/>
                </a:moveTo>
                <a:lnTo>
                  <a:pt x="17612" y="14299"/>
                </a:lnTo>
                <a:lnTo>
                  <a:pt x="17612" y="17989"/>
                </a:lnTo>
                <a:lnTo>
                  <a:pt x="21998" y="17989"/>
                </a:lnTo>
                <a:lnTo>
                  <a:pt x="21998" y="10800"/>
                </a:lnTo>
                <a:lnTo>
                  <a:pt x="11380" y="10800"/>
                </a:lnTo>
                <a:lnTo>
                  <a:pt x="11380" y="17989"/>
                </a:lnTo>
                <a:lnTo>
                  <a:pt x="15767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Nubians from Meroe get from the Rocky Des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chickens  B: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iron ore  D: foxy la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09480" y="3505320"/>
            <a:ext cx="822960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The Answer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orte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7238880" y="38088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16687" y="3837"/>
                </a:moveTo>
                <a:lnTo>
                  <a:pt x="19263" y="6448"/>
                </a:ln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lnTo>
                  <a:pt x="23650" y="10800"/>
                </a:lnTo>
                <a:lnTo>
                  <a:pt x="21996" y="10800"/>
                </a:lnTo>
                <a:lnTo>
                  <a:pt x="21996" y="17989"/>
                </a:lnTo>
                <a:lnTo>
                  <a:pt x="11377" y="17989"/>
                </a:lnTo>
                <a:lnTo>
                  <a:pt x="11377" y="10800"/>
                </a:lnTo>
                <a:lnTo>
                  <a:pt x="9724" y="10800"/>
                </a:lnTo>
                <a:close/>
              </a:path>
              <a:path fill="darkenLess" w="33373" h="21600">
                <a:moveTo>
                  <a:pt x="19263" y="6448"/>
                </a:moveTo>
                <a:lnTo>
                  <a:pt x="19263" y="4707"/>
                </a:lnTo>
                <a:lnTo>
                  <a:pt x="21039" y="4707"/>
                </a:lnTo>
                <a:lnTo>
                  <a:pt x="21039" y="8224"/>
                </a:lnTo>
                <a:close/>
              </a:path>
              <a:path fill="darkenLess" w="33373" h="21600">
                <a:moveTo>
                  <a:pt x="15764" y="14299"/>
                </a:moveTo>
                <a:lnTo>
                  <a:pt x="17609" y="14299"/>
                </a:lnTo>
                <a:lnTo>
                  <a:pt x="17609" y="17989"/>
                </a:lnTo>
                <a:lnTo>
                  <a:pt x="21996" y="17989"/>
                </a:lnTo>
                <a:lnTo>
                  <a:pt x="21996" y="10800"/>
                </a:lnTo>
                <a:lnTo>
                  <a:pt x="11377" y="10800"/>
                </a:lnTo>
                <a:lnTo>
                  <a:pt x="11377" y="17989"/>
                </a:lnTo>
                <a:lnTo>
                  <a:pt x="15764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o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rId1" action="ppaction://hlinksldjump"/>
          </p:cNvPr>
          <p:cNvSpPr/>
          <p:nvPr/>
        </p:nvSpPr>
        <p:spPr>
          <a:xfrm>
            <a:off x="731520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162920" y="3808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6682" y="3837"/>
                </a:moveTo>
                <a:lnTo>
                  <a:pt x="19258" y="6448"/>
                </a:ln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lnTo>
                  <a:pt x="23645" y="10800"/>
                </a:lnTo>
                <a:lnTo>
                  <a:pt x="21991" y="10800"/>
                </a:lnTo>
                <a:lnTo>
                  <a:pt x="21991" y="17989"/>
                </a:lnTo>
                <a:lnTo>
                  <a:pt x="11373" y="17989"/>
                </a:lnTo>
                <a:lnTo>
                  <a:pt x="11373" y="10800"/>
                </a:lnTo>
                <a:lnTo>
                  <a:pt x="9719" y="10800"/>
                </a:lnTo>
                <a:close/>
              </a:path>
              <a:path fill="darkenLess" w="33364" h="21600">
                <a:moveTo>
                  <a:pt x="19258" y="6448"/>
                </a:moveTo>
                <a:lnTo>
                  <a:pt x="19258" y="4707"/>
                </a:lnTo>
                <a:lnTo>
                  <a:pt x="21034" y="4707"/>
                </a:lnTo>
                <a:lnTo>
                  <a:pt x="21034" y="8224"/>
                </a:lnTo>
                <a:close/>
              </a:path>
              <a:path fill="darkenLess" w="33364" h="21600">
                <a:moveTo>
                  <a:pt x="15759" y="14299"/>
                </a:moveTo>
                <a:lnTo>
                  <a:pt x="17605" y="14299"/>
                </a:lnTo>
                <a:lnTo>
                  <a:pt x="17605" y="17989"/>
                </a:lnTo>
                <a:lnTo>
                  <a:pt x="21991" y="17989"/>
                </a:lnTo>
                <a:lnTo>
                  <a:pt x="21991" y="10800"/>
                </a:lnTo>
                <a:lnTo>
                  <a:pt x="11373" y="10800"/>
                </a:lnTo>
                <a:lnTo>
                  <a:pt x="11373" y="17989"/>
                </a:lnTo>
                <a:lnTo>
                  <a:pt x="15759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ata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7010280" y="30492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16694" y="3837"/>
                </a:moveTo>
                <a:lnTo>
                  <a:pt x="19270" y="6448"/>
                </a:ln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lnTo>
                  <a:pt x="23657" y="10800"/>
                </a:lnTo>
                <a:lnTo>
                  <a:pt x="22003" y="10800"/>
                </a:lnTo>
                <a:lnTo>
                  <a:pt x="22003" y="17989"/>
                </a:lnTo>
                <a:lnTo>
                  <a:pt x="11385" y="17989"/>
                </a:lnTo>
                <a:lnTo>
                  <a:pt x="11385" y="10800"/>
                </a:lnTo>
                <a:lnTo>
                  <a:pt x="9731" y="10800"/>
                </a:lnTo>
                <a:close/>
              </a:path>
              <a:path fill="darkenLess" w="33388" h="21600">
                <a:moveTo>
                  <a:pt x="19270" y="6448"/>
                </a:moveTo>
                <a:lnTo>
                  <a:pt x="19270" y="4707"/>
                </a:lnTo>
                <a:lnTo>
                  <a:pt x="21046" y="4707"/>
                </a:lnTo>
                <a:lnTo>
                  <a:pt x="21046" y="8224"/>
                </a:lnTo>
                <a:close/>
              </a:path>
              <a:path fill="darkenLess" w="33388" h="21600">
                <a:moveTo>
                  <a:pt x="15771" y="14299"/>
                </a:moveTo>
                <a:lnTo>
                  <a:pt x="17616" y="14299"/>
                </a:lnTo>
                <a:lnTo>
                  <a:pt x="17616" y="17989"/>
                </a:lnTo>
                <a:lnTo>
                  <a:pt x="22003" y="17989"/>
                </a:lnTo>
                <a:lnTo>
                  <a:pt x="22003" y="10800"/>
                </a:lnTo>
                <a:lnTo>
                  <a:pt x="11385" y="10800"/>
                </a:lnTo>
                <a:lnTo>
                  <a:pt x="11385" y="17989"/>
                </a:lnTo>
                <a:lnTo>
                  <a:pt x="15771" y="1798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27:33Z</dcterms:created>
  <dc:creator>Default</dc:creator>
  <dc:description/>
  <dc:language>en-US</dc:language>
  <cp:lastModifiedBy>Default</cp:lastModifiedBy>
  <dcterms:modified xsi:type="dcterms:W3CDTF">2009-01-14T17:52:22Z</dcterms:modified>
  <cp:revision>8</cp:revision>
  <dc:subject/>
  <dc:title>Slide 1</dc:title>
</cp:coreProperties>
</file>